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20.png" ContentType="image/png"/>
  <Override PartName="/ppt/media/image17.png" ContentType="image/png"/>
  <Override PartName="/ppt/media/image16.wmf" ContentType="image/x-wmf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28.jpeg" ContentType="image/jpeg"/>
  <Override PartName="/ppt/media/image7.jpeg" ContentType="image/jpeg"/>
  <Override PartName="/ppt/media/image33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12.wmf" ContentType="image/x-wmf"/>
  <Override PartName="/ppt/media/image37.png" ContentType="image/png"/>
  <Override PartName="/ppt/media/image38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9.jpeg" ContentType="image/jpeg"/>
  <Override PartName="/ppt/media/image11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C299-812D-4DC1-BBA4-3F3C3A374A1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7928-D62D-4551-9FD1-27BA29BD6944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9AF-CD1F-4BCE-B0C7-B5D2D3E7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888-5DA5-4F2A-AAE3-95BC56F9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B48-6A88-4434-A015-12DB5A88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254-6BF2-449D-9540-A2DD9263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5858-2532-4947-B661-0E362759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D32B-3F56-451F-9C40-85213402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D29F-A76B-4FD0-B9F1-8AFB8F28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2A24-7499-499E-BF3E-9630FC05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3CA-FA85-4BBF-9EB4-8692E55C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6250-BCE0-4169-B9A8-29C196ED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0A7A-8C77-4A78-9995-9B552F27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A9F-928B-4DCF-9010-23ACBA26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1334-E1BE-48C2-99EA-753D2A38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8CE-2FE1-47C6-B25B-32F63D5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EE59-F82F-4E95-8B14-6D265170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D39F-B983-4528-9B8B-E5F0FA9F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E677-AADE-47E2-86A4-36139F44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367A4-C178-482E-8CFD-FEBB025A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DD040-F04A-4D36-87CE-703F6661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1A22E-65A4-4533-A802-994E61E7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AD529-0AF3-4841-816B-3003C623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8AF65-3451-4EA3-8038-7741721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54A-283A-416E-A702-981E2187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2B3FE-970D-4065-BCD3-AADFEA73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12F69-05B7-44CA-8107-4446BB6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12DDA-0C9E-40F3-B255-1644C5A4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881D5-9457-4B3F-8EE3-105C2DF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BAEF6-CCB4-43EB-B2C5-71F250C1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37563-C201-4281-9430-31637CDE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C3231-DF6E-47A9-8AF6-B8DDFBED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C2E2D-6C16-420E-A2CD-8CCD8AEE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AF9D-D48D-4CE5-821A-2A785E94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1366-239E-418D-B3DA-5901B459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FB3-CAA4-4369-A83B-233E61E0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64364-D0B5-4982-9770-4CFE0A4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6FCE-7487-4A6B-9611-717D3D49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BC8D9-86C0-4D83-A59E-190CC3E9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9047-2526-4C5D-ABAA-6599CDCB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5F0C-4915-4E55-9F45-DCBCFF05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4AA01-3C89-46AE-80B0-020BEBEB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7CDD-9850-4800-B3A4-62B1D7F1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A5EF1-C08E-4083-A1C0-F678C75B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500F-3912-4D56-9FAD-5791ED6F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00529-D8B4-41CF-B43D-C30F34D2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7DD-86D4-4482-A298-B0FD7238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00CD5-529A-4154-86AC-9D84400A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0D11F-BAB9-485C-AC41-3D066BFB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CDFE9-7D80-4CA0-95CB-87D63060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40BAF-9694-468D-900D-C9385A55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A9078-FF08-4419-AC26-B7A1F2A4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5989B-442E-43A6-A21B-5F696E1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89C25-DE62-4B74-BF57-CFE9EA0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F721C-F059-45B2-ABF7-D358F199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EA338-B5FD-4F20-B3C4-C081C5BC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68E3F-B47B-47CD-BD71-3CDCC850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C44-3BFA-412B-A8F2-83A1FE7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9BC97-56A6-453C-A7D7-7E0A9983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AFCF0-D3F2-4140-A75B-279BAA6A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12EE1-E043-4BE0-BDDD-8A3E64B7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2FF63-BBF5-4EEB-A7CB-BC755014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04344-6B87-4093-AD2A-3B05F10A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317EA-D888-433A-A6FB-E6775C3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1C24E-FA41-4DF2-8CB9-78AEF4E1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A5F0A-C9C9-4BA0-9481-5CCD3FD9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CFEBD-F779-45E3-B034-676E9AD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0AF08-06F3-4D72-BFC8-52024DE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C93-13AE-4A86-AC99-DFD9977F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3959D-D25B-4E4E-AB8D-55D5A1B4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7C505-87DD-4431-98D8-C8837748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58B9D-683A-4FD8-BFE4-63E489A7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07C27-11BF-4B94-BD81-B1CE271E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6554C-F3DB-4FD9-9EBE-12410F6B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72343-C085-47C0-8527-435DD55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EF57D-1CED-4DDB-9131-4CC132F7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9F0EB-D956-4FCA-B383-C5595214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B0CCB-367E-4391-BE3B-BE559FC7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4D5A2-46C3-4F8E-A6FD-1E37B92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502-AEE8-4EE8-9C81-F02401C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6F28A-ED42-4B25-BF3A-85880E9F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A3F4F-6CF4-4BC1-A172-40EA731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FB3ED-ABFF-4C0C-9269-FEF51C67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E5AFA-9B74-459C-BEBE-45CB6CA1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9E4C6-8232-42D8-A04D-B94CAE4A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056-3FDC-4151-9CDF-A0791F8C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3DDB-3157-4485-8B54-254924C94F4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301F-887E-4734-AC19-636F052ED7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6FE0-ED6C-4B3D-A1C9-5B8D04F4AB7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1F78-2997-453A-81CA-4BBE7B147A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A46D-12DF-49B9-99B0-80BA03D5AA4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FCEB-82C9-497B-9393-B8A0F1E773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C878-0104-4EC9-B2AD-1328B90E6EF7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FFB8-12BD-4012-AE38-6A989521B0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18D2-D852-4017-8FA8-2659758F81A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18D0-5462-4FE1-8102-C8854413D71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A2D9-752D-4DB5-B957-558A3E11566A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0AB-307A-44BA-886E-2201756830A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41FE-E16B-444E-802F-A6EBBA39548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4642-B045-42B0-B05F-78EA7743A81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medscape.com/features/slideshow/vision-loss-201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diologyassistant.nl/data/bin/a51910e08181d7_15-MS-typisch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discoverymedicine.com/Timothy-W-West/files/2013/10/discovery_medicine_no_88_timothy_w_west_figure_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ASE DISCUSSION 1: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EPIDEMIOLOGY &amp; CLINICAL FEATUR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Suhailah/Dr. Shelina/Dr. Saiful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Darisah/Dr. Shant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471-12AC-46D8-863C-27E2F98FABB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nvestigations are required to support a diagnosis of ON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9E2A-11A3-4849-8E3B-CE7C1F041C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Blood investig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MRI orbit, brain &amp; whole spine with gadoliniu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SF: Biochemistry, oligoclonal bands (OCB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Visual evoked potentials (VEPs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- prolonged P100 latencies &amp;/reduced amplitudes of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waveforms in 65% patients with 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Optical Coherence Tomography (OCT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2F16-88E9-47D9-BB46-EE0123429C1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RI ORBI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slide_image3" descr="http://img.medscape.com/pi/features/slideshow-slide/vision-loss-2012/fig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21932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990720" y="5638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ontrast-enhanced T1-weighted MRI shows abnormal enhancement of the left optic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A524-C69E-41F2-8036-D2FFBD53A53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RI BRAIN &amp; SPIN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n51910dfff35c3" descr="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95560" y="1295280"/>
            <a:ext cx="4457520" cy="515628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B58E-B53B-49D4-92CF-24DD7F8366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CSF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95880" cy="5486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D88-5300-440A-A14E-06F72B97C55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VEP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Content Placeholder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40384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808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Century Schoolbook"/>
              </a:rPr>
              <a:t>The RIGHT eye peak latencies are in normal range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Century Schoolbook"/>
              </a:rPr>
              <a:t>The LEFT eye peak latencies are significantly dela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7121-AFBC-4943-82F4-D5747D66931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OC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Content Placeholder 6" descr="http://4.bp.blogspot.com/_qmud-Nv3UXg/S8D163aC3MI/AAAAAAAAAAc/8nxDZ5gJHyM/s1600/OCT.jpg"/>
          <p:cNvPicPr/>
          <p:nvPr/>
        </p:nvPicPr>
        <p:blipFill>
          <a:blip r:embed="rId1"/>
          <a:stretch/>
        </p:blipFill>
        <p:spPr>
          <a:xfrm>
            <a:off x="947880" y="1254240"/>
            <a:ext cx="720540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990720" y="54450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NFLT of &lt; 70µm predicts worse VA outcome at 3 months after ON (p=0.019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590B-C345-43A6-9086-DE76F98D24B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n further history, patient had a history of numbness of both lower limbs, associated with difficulty in passing urine 2 years ag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went to see a GP who treated her for presumed urinary tract infec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er symptoms resolved within 2 week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4. What are your differential diagnose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08FC-A2F9-4121-8CC4-4BEA179A25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4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ransverse myelitis (TM) with sphincteric involve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diopathic Inflammatory Demyelinating Disease (IID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Multiple scler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Neuromyelitis optica spectrum disorder (NMOS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ED6D-C588-4D8E-804B-98649C8976C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5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investigations to support your diagnosis of TM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3FD1-6542-48CE-9D68-AA4F642D449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143000"/>
            <a:ext cx="80773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2 year-old Malay lad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st semester in electrical engineering cour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 days h/o painful blurring of vision of left ey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fficult to differentiate the colours of electrical wi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ent to see a general practitioner (GP) &amp; referred to an ophthalmologi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. What are the features in this patient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ich are suggestive of optic neuriti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(ON)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4FAD-DF9A-4918-A094-7459E57984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5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MRI of the spinal cor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Evoked potential study: Somatosensory evoked potentials (SSE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600E-2B0E-4281-A19D-B034982B818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6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clinical features suggestive of TM diagnosi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AA19-7B7D-48A0-A5E2-5B20A4DF82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6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ute complete TM (ACT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6120" indent="-2732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lammatory process of the spinal cord causing a symmetrical &amp; moderate to severe loss of function distal to the level of lesion, usually with sphincteric involv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6120" indent="-27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ute partial TM (APT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6120" indent="-2732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mplete or patchy involvement of at least 1 spinal segment with mild to moderate weakness, asymmetrical or dissociated sensory symptoms, &amp; occasionally bladder involv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F656-B493-4647-9FEA-42404603CB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RI IMAGES ACTM VS APTM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9" name="Object 35" descr=""/>
          <p:cNvPicPr/>
          <p:nvPr/>
        </p:nvPicPr>
        <p:blipFill>
          <a:blip r:embed="rId1"/>
          <a:stretch/>
        </p:blipFill>
        <p:spPr>
          <a:xfrm>
            <a:off x="457200" y="3308400"/>
            <a:ext cx="4040280" cy="2754360"/>
          </a:xfrm>
          <a:prstGeom prst="rect">
            <a:avLst/>
          </a:prstGeom>
          <a:ln w="0">
            <a:noFill/>
          </a:ln>
        </p:spPr>
      </p:pic>
      <p:pic>
        <p:nvPicPr>
          <p:cNvPr id="430" name="Content Placeholder 7" descr="Figure 1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666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57280" y="1014480"/>
            <a:ext cx="3839400" cy="1856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agittal T2 (A) image demostrates lesion within the spinal cord (arrow). The same lesion as seen on the axial T2 (B) image, occupying only part of the spinal cor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756680" y="1026000"/>
            <a:ext cx="3970800" cy="206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agittal (A) &amp; axial (B) T2-weighted images in a patient with CDMS. Note that the lesions are &lt;2 cord segments, ovoid &amp; peripherally located [seen most clearly on the axial image labeled (B)]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0BBD-BC56-4A89-A2A3-E0781BB823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entury Schoolbook"/>
              </a:rPr>
              <a:t>DIFFERENTIAL DIAGNOSIS UPON PRESENTATION WITH DEMYELINATING SPINAL CORD SYNDROME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Picture 2" descr="C:\Users\DELL\Pictures\TM flow chart.PNG"/>
          <p:cNvPicPr/>
          <p:nvPr/>
        </p:nvPicPr>
        <p:blipFill>
          <a:blip r:embed="rId1"/>
          <a:stretch/>
        </p:blipFill>
        <p:spPr>
          <a:xfrm>
            <a:off x="284040" y="1295280"/>
            <a:ext cx="8250480" cy="541044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7C71-61D0-4CFD-9687-ED23142ED2C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CASE DISCUSSION 2: 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DIFFERENTIALS &amp; DIAGNOSTIC CRITERI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Shanti/Dr. Ooi Phaik Yee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Kartikasalwah/Dr. Norzain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CC46-E5A7-4792-AF4C-B9714EFDB09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ISTORY (CONT.) …. CURRENT EPISODE OF ON, PAST HISTORY OF POSSIBLE MYELITIS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oung female, in her 30’s, no F/H similar episod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rst episod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typical of 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urther hist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prior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istorical evidenc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a possible myelitis, MRI spine was not done at that ti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841C-CE7E-48CF-94FB-822FA5CD31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ye examin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ft eye RAPD, reduced VA, impaired colour vision with a hyperaemic dis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tor &amp; sensory examin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akness in right lower limbs with power of 4+/5, brisk reflex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d tone &amp; bilateral upgoing plant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d vibration sense till the hips bilateral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6337-93DD-4C9E-B17C-DC181248F3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findings suggest the presence of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urrent left eye O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prior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istorical evidenc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a partial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rroborated by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bjective sig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n neurological exami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vidence of dissemination in time &amp; space (DIT, D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ook at all possible differential diagnosis of ON &amp; TM occurring sequentiall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i.e. differential diagnoses of neurological conditions with DIT &amp; DI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7. What are the differential diagnoses i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this cas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C17-5067-4427-AA8F-AE255ECF272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IDD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e scler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MOS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ute Disseminated Encephalomyelitis (ADE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ther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sculitis - SLE, Sjogre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scular causes - atheroscler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nulomatous disorder - sarcoid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12 deficien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ymph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A1C7-1793-4973-9E84-1CD9F4FFEAC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inful blurring of vi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lour vision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1E3B-4C67-4560-9E86-46F8BAFBFC0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331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h/o encephalopathy, antecedent fever or immunisation, &amp; the temporal history is not suggestive of AD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h/o joint pains, alopecia, oral ulcers, dry eyes or mouth to suggest CTD (e.g. SLE/Sjogren’s syndrom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h/o DM/HPT/dyslipidaemia to suggest atherosclerosis with optic nerve &amp; cord involvement as the recovery would be poor, older age gro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E271-4E42-4057-984F-1ADB952D08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33160" y="14778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MOSD is possible - however eye recovery is rather good but still needs TR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arcoidosis is possible - however no facial nerve/uveitis at onset; chest x-ray would be useful to look for hilar lymphadenopathy, serum AC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8421-1066-46B6-8866-2F2F0C8906D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ontent Placeholder 2"/>
          <p:cNvSpPr/>
          <p:nvPr/>
        </p:nvSpPr>
        <p:spPr>
          <a:xfrm>
            <a:off x="685800" y="4830840"/>
            <a:ext cx="7543800" cy="144756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 typical features of MS from history, clinical examination, CSF, neuroimaging &amp; 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1447920" y="579600"/>
            <a:ext cx="6095880" cy="6161040"/>
          </a:xfrm>
          <a:prstGeom prst="rect">
            <a:avLst/>
          </a:prstGeom>
          <a:ln w="0">
            <a:noFill/>
          </a:ln>
        </p:spPr>
      </p:pic>
      <p:sp>
        <p:nvSpPr>
          <p:cNvPr id="46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0E3D-BEE2-4F68-9EAA-C901AB51BFC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NEED TRO ALL OTHER DIFFERENTIAL DIAGNOSES &amp; BE AWARE OF RED FLAGS FOR M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365200"/>
            <a:ext cx="792468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boratory/paracli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uroimag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CA24-730B-4408-8F78-FDF6F3459F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CLINICAL RED FLAG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838080" y="1249200"/>
            <a:ext cx="6010560" cy="1752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8" name="Picture 3" descr=""/>
          <p:cNvPicPr/>
          <p:nvPr/>
        </p:nvPicPr>
        <p:blipFill>
          <a:blip r:embed="rId2"/>
          <a:stretch/>
        </p:blipFill>
        <p:spPr>
          <a:xfrm>
            <a:off x="2819520" y="3154320"/>
            <a:ext cx="5902200" cy="3200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46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C998-3287-4B63-93C6-3DE5DE58FB5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LABORATORY/PARACLINICAL RED FLAG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639720" y="2362320"/>
            <a:ext cx="7736040" cy="26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F5B3-5BFF-44DD-9310-6A21BE657A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NEUROIMAGING RED FLAG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26300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7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B40A-5F41-4C8B-AA51-1C4C2B5F3E2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"/>
          <p:cNvPicPr/>
          <p:nvPr/>
        </p:nvPicPr>
        <p:blipFill>
          <a:blip r:embed="rId1"/>
          <a:srcRect l="3257" t="2222" r="10795" b="0"/>
          <a:stretch/>
        </p:blipFill>
        <p:spPr>
          <a:xfrm>
            <a:off x="304920" y="158760"/>
            <a:ext cx="6478560" cy="6546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77" name="TextBox 3"/>
          <p:cNvSpPr/>
          <p:nvPr/>
        </p:nvSpPr>
        <p:spPr>
          <a:xfrm>
            <a:off x="6934320" y="2565360"/>
            <a:ext cx="182880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Differences between MS &amp; N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2115-72CE-4DB6-AE73-37FC124627A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8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68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es this patient fulfill the clinical criteria for CDM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780F-DFDE-4D0C-B350-0A6D120B217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8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6094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9A42-8C36-497A-A2D0-E100B293C73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216000" y="1143000"/>
            <a:ext cx="8470800" cy="40384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1166760" y="5029200"/>
            <a:ext cx="6453360" cy="175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other clinical signs of ON you would look for in this pati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C7F5-A518-4213-8DB6-9F0CA4345D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iagnostic criteria….  McDonald 2010 revised crite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ent accepted diagnostic criteria for MS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499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nical finding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499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araclinical investigations (laboratory &amp; neuroimaging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6BFB-EA63-423A-AA25-342BF447413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 criteria are fulfilled, typical MRI findings, “No better explanation from history”, &amp; investigati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iagnosis is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ultiple scler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A3B8-696A-49D7-95A3-25A7947D84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)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RI has been d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EC90-36D7-4AC5-A9AA-1154EADFA5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RI T2 AX BRAIN IMAG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036A-5B24-4986-A220-694E30FDD28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20380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DE97-FF2A-49F1-A5DC-A7A22C75DE8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666880" y="165240"/>
            <a:ext cx="376092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CASE DISCUSSION 3: 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PHARMACOLOGICAL MANAGEMEN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P Dr. Tan Hui Jan/Dr. Sufian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Joyce/Mr. Thian Soon Ye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51CF-96C4-43B9-B6C6-457689F293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4778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neurologist has diagnosed her with CDMS. MRI brain &amp; spine findings also fulfill the McDonald imaging criteria for 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9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at are the treatments for acute relapse in M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at are the indications for starting first-line disease modifying treatment (DMT) in CDM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FC7C-DF55-4757-9B0A-332FA91093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7521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cute relap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38C8-1B6E-4CA5-B7AB-6C738D30F5F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210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75572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cute 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IV methylprednisolone 250 mg 6-hourly for 3 days followed by oral prednisolone at 1 mg/kg for 11 days with a fast ta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5677-F528-4D33-9402-9F3E6F9F0AD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7557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ndications for starting first-line DMT in CDM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2 clinically significant relapses in previous 2 years (active MS)*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able to walk ≥10 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not pregnant or attempting concep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aged &gt;18 y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no contraindic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22FA-FFE0-478D-A57A-D8342E9CFAB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Reduced visual acuity (V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olour vision lo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Presence of Relative Afferent Pupillary Defect (RAP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Visual field (VF) loss (central scotom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Reduced contrast sensitiv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Optic disc (OD) swell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ontralateral OD pallor or swell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79AC-8AD1-40C1-8FA2-8E20106100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7064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im of DM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Reduce relapse 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Delay disability progres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Reduce radiologically active or new brain lesions on M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entury Schoolbook"/>
              </a:rPr>
              <a:t>treatment selection should be individualised based on accessibility, availability, efficacy, tolerability &amp; safety of DMTs, prognostic factors, co-morbidities &amp; patient’s prefere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90CA-5C11-420B-95F0-CAC8C48063B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itle 1"/>
          <p:cNvSpPr/>
          <p:nvPr/>
        </p:nvSpPr>
        <p:spPr>
          <a:xfrm>
            <a:off x="457200" y="3808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B40E-2588-4A3A-B7AA-27F29BCB30D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415800" y="2971800"/>
            <a:ext cx="8118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1752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DMTs in treatment of RR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B566-B9C3-4541-A2B6-CED5A2CF433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tle 1"/>
          <p:cNvSpPr/>
          <p:nvPr/>
        </p:nvSpPr>
        <p:spPr>
          <a:xfrm>
            <a:off x="457200" y="42696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99880" y="2743200"/>
            <a:ext cx="8234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fter starting DMT, the patient is wel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has completed her engineering cours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cently, she’s married &amp; </a:t>
            </a: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planning to get pregnant; thus she’s advised to stop the DMT 3 months prior to concep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is currently pregnant with her first child &amp; is in her first trimester. While pregnant, she develops a spinal cord relapse with weakness of lower limb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0. How would you treat this acut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relapse in pregnancy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21D6-C746-4D42-BD06-846CC4C87BE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V immunoglobulin - treatment of choice in pregnanc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here is lack of evidence on the safety of steroids in pregnant MS patient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IV methylprednisolone is associated with an increased risk of cleft lips &amp; palate in the first trimester of pregnanc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V methylprednisolone may be offered to MS patients with acute relapses in second &amp; third trimester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3C0D-08D0-45B5-85FD-E31555B29A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recovers fully &amp; has an uneventful deliver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would like to breastfeed her bab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1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How would you advise her on breastfeeding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en would you re-initiate the DM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9283-5389-4AE0-BCF7-6DA1627617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1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DMT is not advisable during lact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DMT can be started immediately postpartum as long as the patient is not breast-feed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DA74-45AD-4910-842B-B08624749A9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She is re-initated with DMT at 6 weeks post-partu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6 months later, she presents to the hospital with a complaint of right blurring of vision. She recovers fully after high dose IV methylprednisolon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Unfortunately, she develops another relapse with unsteady gait &amp; diplopia 3 months later. She shows poor response to IV methylprednisolone the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Q12. What is your next step of manageme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68FD-002F-418C-BF6D-CE6284F4843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C72F-4F07-4BF7-8FD9-1787985F56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250920" y="2438280"/>
            <a:ext cx="8310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has partial response to PE &amp; is left with residual weakness. She is currently ambulating with a quadripod (EDSS 4.5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D193-5C19-4AC3-8962-7B7A02F403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2. FEATURES OF 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ye pa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esent in &gt;90% of ca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orse on eye movement, resolves within a wee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entral visual los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sually mononuclear, bilateral onset is rare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(0.4%)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Red Flag! NMOS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gress over hours to days, recover within 2 to 4 weeks; 75% recovers by 1 month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Red Flag! Progression beyond 2 weeks → other ddx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ptic neuropath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duced VA between 6/6 to NP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esence of RAP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lour vision lo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F loss (classically central scotom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duced contrast sensi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undoscop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/3 normal OD (retrobulbar neuriti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/3 mild &amp; diffuse OD swell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ptic-nerve head atrophy (disc pallor), occurs after few weeks inspite of VA recove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35C9-AD81-44FF-9290-C63A49A7C9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RI OF BRAI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FF71-C864-4181-BF4E-3075519367F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" descr="C:\Users\user\Documents\102APPLE\IMG_1619.JPG"/>
          <p:cNvPicPr/>
          <p:nvPr/>
        </p:nvPicPr>
        <p:blipFill>
          <a:blip r:embed="rId1"/>
          <a:srcRect l="0" t="30004" r="14166" b="18337"/>
          <a:stretch/>
        </p:blipFill>
        <p:spPr>
          <a:xfrm>
            <a:off x="4952880" y="2765520"/>
            <a:ext cx="3200400" cy="2568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C:\Users\user\Documents\102APPLE\IMG_1550.JPG"/>
          <p:cNvPicPr/>
          <p:nvPr/>
        </p:nvPicPr>
        <p:blipFill>
          <a:blip r:embed="rId2"/>
          <a:stretch/>
        </p:blipFill>
        <p:spPr>
          <a:xfrm>
            <a:off x="762120" y="18288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RI OF SPIN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ABA6-902A-4C3B-BA63-3653F63E8FA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C:\Users\user\Documents\101APPLE\IMG_3007.JPG"/>
          <p:cNvPicPr/>
          <p:nvPr/>
        </p:nvPicPr>
        <p:blipFill>
          <a:blip r:embed="rId1"/>
          <a:srcRect l="33891" t="56878" r="33058" b="14374"/>
          <a:stretch/>
        </p:blipFill>
        <p:spPr>
          <a:xfrm>
            <a:off x="4917960" y="2895480"/>
            <a:ext cx="2168640" cy="2514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C:\Users\user\Documents\102APPLE\IMG_1496.JPG"/>
          <p:cNvPicPr/>
          <p:nvPr/>
        </p:nvPicPr>
        <p:blipFill>
          <a:blip r:embed="rId2"/>
          <a:srcRect l="25509" t="14306" r="38103" b="-341"/>
          <a:stretch/>
        </p:blipFill>
        <p:spPr>
          <a:xfrm>
            <a:off x="1709640" y="1800360"/>
            <a:ext cx="2252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1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s your next step of managem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C419-25A3-40DF-953A-339BEB67DC1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13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75572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s patient has evidence of rapidly evolving 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relapses/yea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sening of EDSS from bas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RI brain shows active dise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0F34-407D-4AA4-A57C-E9182CD24C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1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55412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ased on the CPG, the treatment should be escalated to second-line therap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AC2C-9C08-49C3-94F3-66F91D04204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457200" y="281160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460440" y="4068720"/>
            <a:ext cx="77691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E5B9-05B4-4B58-A818-A677C0528BE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2608200" y="299880"/>
            <a:ext cx="5240520" cy="6207120"/>
          </a:xfrm>
          <a:prstGeom prst="rect">
            <a:avLst/>
          </a:prstGeom>
          <a:ln w="0">
            <a:noFill/>
          </a:ln>
        </p:spPr>
      </p:pic>
      <p:sp>
        <p:nvSpPr>
          <p:cNvPr id="573" name="Title 2"/>
          <p:cNvSpPr/>
          <p:nvPr/>
        </p:nvSpPr>
        <p:spPr>
          <a:xfrm>
            <a:off x="457200" y="27468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CASE DISCUSSION 4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REHABILITA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Izmi/Dr. Akmal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Sheela/Dr. Chee Kok Yo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18E1-8FE4-4F37-B480-B9E60E421A4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1832040"/>
            <a:ext cx="792468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is struggling with her disability &amp; taking care of her baby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ter, she develops depressive featur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4. What is your next step of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managem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F0B3-1837-41A0-8CE2-594CEF4B57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4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70640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linical assessment of depressive features: is it an Adjustment Disorder or Major Depressive Disorder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n case of MD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50FE-9397-4691-AD79-B327317BB3E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452520" y="4145040"/>
            <a:ext cx="8037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tient  is referred for Rehabilitation Programm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5.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Describe the concept of a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rehabilitation programme &amp; it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goal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8750-4475-4FDF-967C-2F48265FC7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2. FUNDOSCOPY IN 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Content Placeholder 3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6764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8E15-6E0A-4938-974B-8A1252DED22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5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habilitation progamme involv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multidisciplinary interventions focusing on reducing symptoms &amp; limitations at the level of activity &amp; participation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s is done through interventions which include personal &amp; environmental factors,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achieve the highest possible independence &amp; the best quality of lif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QoL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MS patients within the limits of the diseas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CF9B-2E31-4777-85F0-690149661EC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From assessment, she has bilateral lower limbs paraparesis with proximal muscle strength of 4/5 &amp; distally of 2/5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6. What is the management strategy t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address her impairm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C87A-F1CF-4F7D-A30D-487373862D4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6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1C8E-9432-4D8C-B0C8-3BEC343FF97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560520" y="1990800"/>
            <a:ext cx="7897680" cy="364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7" name="Rounded Rectangle 4"/>
          <p:cNvSpPr/>
          <p:nvPr/>
        </p:nvSpPr>
        <p:spPr>
          <a:xfrm>
            <a:off x="914400" y="4495680"/>
            <a:ext cx="7543800" cy="9144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560520" y="2438280"/>
            <a:ext cx="7897680" cy="1981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6840" y="17557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Muscle tone shows spasticity of her bilateral plantarflexors with Modified Ashworth Scale Grade 2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his impairs her ambul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7. List the  potential management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strategy for her spasticity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complica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6359-7422-4F1C-A3B4-50C8BF23D5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0653-84B6-4FF1-9E13-C4258DF881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311040" y="2057400"/>
            <a:ext cx="8309160" cy="2971800"/>
          </a:xfrm>
          <a:prstGeom prst="rect">
            <a:avLst/>
          </a:prstGeom>
          <a:ln w="0">
            <a:noFill/>
          </a:ln>
        </p:spPr>
      </p:pic>
      <p:sp>
        <p:nvSpPr>
          <p:cNvPr id="605" name="Rounded Rectangle 4"/>
          <p:cNvSpPr/>
          <p:nvPr/>
        </p:nvSpPr>
        <p:spPr>
          <a:xfrm>
            <a:off x="228600" y="3657600"/>
            <a:ext cx="8451720" cy="1447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ounded Rectangle 2"/>
          <p:cNvSpPr/>
          <p:nvPr/>
        </p:nvSpPr>
        <p:spPr>
          <a:xfrm>
            <a:off x="311040" y="2590920"/>
            <a:ext cx="8309160" cy="10666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68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is concern about increasing tiredness at work especially towards the end of the da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8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What is the likely description of her symptom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What should be the advice for her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7BD-C0A3-48DD-AE58-C8454ED9F75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6840" y="1781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Fatigu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dvice for he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BC4C-7E12-4876-8DD7-88E4279012D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380880" y="3381480"/>
            <a:ext cx="81918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On screening of MS-related symptoms,  she reports increasing sensation of incomplete void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9. Outline your management pla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815E-5E63-4762-9AAA-5E5F0C7456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8846-104A-4AF8-9796-F28DF6CB78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1814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C8F-1998-494C-B62A-255A3D7A349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512640" y="1143000"/>
            <a:ext cx="7945560" cy="22366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2"/>
          <a:stretch/>
        </p:blipFill>
        <p:spPr>
          <a:xfrm>
            <a:off x="525600" y="3352680"/>
            <a:ext cx="7599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2. ATYPICAL FEATURES OF ON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tinal haemorrhag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arkedly swollen optic ner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tinal exud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bsence of p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light perception (NLP) vision at onse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bsence of any visual recovery by 30 day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F311-42E9-4E1E-A6CC-992F1F3D542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68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Visual assessment shows significantly impaired func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20. What is the strategy to minimise h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disability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BAD6-7D29-478F-86CF-2EC5B75E8A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68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Low vision rehabilitation using low vision aid (magnifiers, prisms, telescopes, electronic devices &amp; large-text reading materia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raining to maximise participation in independent liv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1728-B199-4EFD-88DC-18051AFED68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entury Schoolbook"/>
              </a:rPr>
              <a:t>THANK YOU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F905-9C5C-4715-AB84-F7CB737F373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2. DIFFERENTIAL DIAGNOSIS OF DEMYELINATING 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ther autoimmune conditions: sarcoidosis, SLE, Sjogren’s syndro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fective: Syphilis, TB, viral infections, cat scratch, Lyme’s disea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uromyelitis optica spectrum disorder (NMOS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pressive optic neuropath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terior ischaemic optic neuropath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eber’s Hereditary Optic Neuropath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A5B9-00EE-4E64-B2F3-61672993326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16:28Z</dcterms:created>
  <dc:creator>kkm</dc:creator>
  <dc:description/>
  <dc:language>en-US</dc:language>
  <cp:lastModifiedBy>DrAmin</cp:lastModifiedBy>
  <dcterms:modified xsi:type="dcterms:W3CDTF">2016-12-03T03:01:52Z</dcterms:modified>
  <cp:revision>140</cp:revision>
  <dc:subject/>
  <dc:title>Case Discussion 1</dc:title>
</cp:coreProperties>
</file>